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6D85-A4FE-4D2F-B1C6-CB9CA7D9D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271-4485-4FDA-93EB-CF600A20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68EB-574A-4B86-9F10-E7E39484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9AA-5B70-4297-ACBA-27695D660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4BC-C8EF-4A0D-BFDC-AD99DEB3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37A-D23E-4EB6-A33A-8F58EE1C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2B2-8352-4156-82AA-0CF63371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A4DE-DC5E-4303-B92A-BC0F28CF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C46-45FC-46C8-9CDF-FBD340A0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1B2-B786-49AA-9F5F-E17FC190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3A9-C409-46EF-8F46-A0F2F4B2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E48E-C9BA-4DA0-A9F2-118BEC1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718-C468-4A3A-B789-BDE8195C6C2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83" name="TextBox 5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B201602-CAD1-431C-AB21-F07232EB27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28760" y="2133720"/>
            <a:ext cx="8429400" cy="26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1.1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∙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στιν ὁ προφητης 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aying: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prophe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4.1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ειν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ρ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κο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ime Herod heard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905120" y="11732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2.3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3120" y="2000160"/>
            <a:ext cx="850104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ther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ηλος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one another) both decline lik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3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ἄλλ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λοια ἠν μετ’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ats were with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4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πρ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λλη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And they were say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one ano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A0E56142-3DE2-4A9A-A245-9CBE1FE727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6575415-785D-4101-AEAA-8BC77C83379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428920" y="11239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3.1 Pronou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7200" y="1790640"/>
          <a:ext cx="8786880" cy="3353040"/>
        </p:xfrm>
        <a:graphic>
          <a:graphicData uri="http://schemas.openxmlformats.org/drawingml/2006/table">
            <a:tbl>
              <a:tblPr/>
              <a:tblGrid>
                <a:gridCol w="900360"/>
                <a:gridCol w="1290600"/>
                <a:gridCol w="1461960"/>
                <a:gridCol w="1116000"/>
                <a:gridCol w="1031760"/>
                <a:gridCol w="939960"/>
                <a:gridCol w="1101600"/>
                <a:gridCol w="944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me, 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us, 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you, 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/for 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μ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273"/>
          <p:cNvSpPr/>
          <p:nvPr/>
        </p:nvSpPr>
        <p:spPr>
          <a:xfrm>
            <a:off x="357120" y="5357880"/>
            <a:ext cx="82296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ο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self means 'we untie'. There is no need for a word for 'we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428760" y="1773360"/>
            <a:ext cx="824868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al. 5.2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Greek"/>
                <a:ea typeface="Times New Roman"/>
              </a:rPr>
              <a:t>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γ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υλος 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ul te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2.2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σ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της ὡρας ταυτ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S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from this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21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αὐτ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..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ῳ∙ Κυριε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ινωσκεις ὁτι 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he said … 'Do you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?' … and he said to him, 'Lord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know that I lo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E4AAD51A-3895-48F2-BC0F-567AED3C29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70A832CA-C905-4922-949D-480C6DB753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752480" y="1752480"/>
            <a:ext cx="5639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2 Reflexive Pronou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971800"/>
          <a:ext cx="6705360" cy="2011320"/>
        </p:xfrm>
        <a:graphic>
          <a:graphicData uri="http://schemas.openxmlformats.org/drawingml/2006/table">
            <a:tbl>
              <a:tblPr/>
              <a:tblGrid>
                <a:gridCol w="2347920"/>
                <a:gridCol w="43574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sel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f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εαυ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lines like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ὐ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rsel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selves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ust use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αυ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866960" y="142884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3.3 Possessive Adjec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85800" y="2286000"/>
            <a:ext cx="77724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 commonly by usin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genitive of the personal pronouns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of me, of you, of us, of you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, in the singular you can use a special ad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928960" y="4786200"/>
          <a:ext cx="3090960" cy="1006560"/>
        </p:xfrm>
        <a:graphic>
          <a:graphicData uri="http://schemas.openxmlformats.org/drawingml/2006/table">
            <a:tbl>
              <a:tblPr/>
              <a:tblGrid>
                <a:gridCol w="2168640"/>
                <a:gridCol w="9223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r (sing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Box 4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F2BB045-D0EC-4D4A-93D3-98C88AA9F11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7680" y="60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3 FIRST AND SECOND PERS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RONOUNS 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E578900-9B6E-4531-982F-489279B6B2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00040" y="3500280"/>
            <a:ext cx="7929720" cy="28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0.2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ἐστε ἐκ των προβατων τ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 are not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heep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20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ὁ θε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ord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m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990720" y="1357200"/>
            <a:ext cx="7138800" cy="1899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My words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υ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not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οι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Compare: 'his words'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λογοι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)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μ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need the arti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A7007B8-05E2-402C-AC0A-4CB4513380A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324160" y="1595520"/>
            <a:ext cx="4495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1 Timid words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71520" y="2814480"/>
            <a:ext cx="6572160" cy="2235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/ f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not come as the first wo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25AEC500-482F-4EF0-BA59-84A848CBAB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04920" y="2556000"/>
            <a:ext cx="8610480" cy="28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θεραπευσ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eal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hes. 2.2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α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ε ἡ δοξα ἡμων και ἡ χαρ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 are our glory and joy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2142720" y="2490840"/>
            <a:ext cx="1667160" cy="223920"/>
            <a:chOff x="2142720" y="2490840"/>
            <a:chExt cx="1667160" cy="223920"/>
          </a:xfrm>
        </p:grpSpPr>
        <p:sp>
          <p:nvSpPr>
            <p:cNvPr id="151" name="Line 5"/>
            <p:cNvSpPr/>
            <p:nvPr/>
          </p:nvSpPr>
          <p:spPr>
            <a:xfrm flipH="1">
              <a:off x="29761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6"/>
            <p:cNvSpPr/>
            <p:nvPr/>
          </p:nvSpPr>
          <p:spPr>
            <a:xfrm flipH="1">
              <a:off x="2142720" y="2490840"/>
              <a:ext cx="8334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21430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 flipV="1">
              <a:off x="3809880" y="2490840"/>
              <a:ext cx="0" cy="22392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9"/>
          <p:cNvSpPr/>
          <p:nvPr/>
        </p:nvSpPr>
        <p:spPr>
          <a:xfrm>
            <a:off x="304920" y="1946160"/>
            <a:ext cx="327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92F71F09-3A95-4A7C-A462-43222182ED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0" y="13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57200" y="2143080"/>
            <a:ext cx="762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cede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order to express contr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57120" y="3000240"/>
            <a:ext cx="8305920" cy="32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ογιζεσθε ἑαυτους εἰν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νεκρ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ῃ ἁμαρτιᾳ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ζωντα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 6.1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consider yourselves to be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 the on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dead to sin but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the other h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alive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4786200" y="3670200"/>
            <a:ext cx="1643040" cy="214560"/>
            <a:chOff x="4786200" y="3670200"/>
            <a:chExt cx="1643040" cy="214560"/>
          </a:xfrm>
        </p:grpSpPr>
        <p:sp>
          <p:nvSpPr>
            <p:cNvPr id="162" name="Line 7"/>
            <p:cNvSpPr/>
            <p:nvPr/>
          </p:nvSpPr>
          <p:spPr>
            <a:xfrm flipH="1">
              <a:off x="560772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8"/>
            <p:cNvSpPr/>
            <p:nvPr/>
          </p:nvSpPr>
          <p:spPr>
            <a:xfrm flipH="1">
              <a:off x="4786200" y="3670200"/>
              <a:ext cx="82152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78620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 flipV="1">
              <a:off x="6429240" y="3670200"/>
              <a:ext cx="0" cy="21456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271160" y="4348080"/>
            <a:ext cx="1371960" cy="152640"/>
            <a:chOff x="1271160" y="4348080"/>
            <a:chExt cx="1371960" cy="152640"/>
          </a:xfrm>
        </p:grpSpPr>
        <p:sp>
          <p:nvSpPr>
            <p:cNvPr id="167" name="Line 12"/>
            <p:cNvSpPr/>
            <p:nvPr/>
          </p:nvSpPr>
          <p:spPr>
            <a:xfrm flipH="1">
              <a:off x="19569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3"/>
            <p:cNvSpPr/>
            <p:nvPr/>
          </p:nvSpPr>
          <p:spPr>
            <a:xfrm flipH="1">
              <a:off x="1271160" y="4348080"/>
              <a:ext cx="685800" cy="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12715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 flipV="1">
              <a:off x="2643120" y="4348080"/>
              <a:ext cx="0" cy="152640"/>
            </a:xfrm>
            <a:prstGeom prst="line">
              <a:avLst/>
            </a:prstGeom>
            <a:ln w="2556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239760" y="1414440"/>
            <a:ext cx="8648640" cy="43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.12: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καστος ὑμων λεγει∙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μι Παυλου, ἐγω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’Απολλω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ηφα, ἐ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Χρισ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Each of you says, 'I am Paul's, I am Apollos',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phas', I am Christ's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cts 14.4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ἠσαν συν τοις Ἰουδαιοις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υ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τοις ἀποστολο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Jews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th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ere with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ostles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5A7283BC-A227-4BD7-96FC-1029BE0DB3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743200" y="1095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1.1 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6200" y="2035080"/>
          <a:ext cx="7854840" cy="4108680"/>
        </p:xfrm>
        <a:graphic>
          <a:graphicData uri="http://schemas.openxmlformats.org/drawingml/2006/table">
            <a:tbl>
              <a:tblPr/>
              <a:tblGrid>
                <a:gridCol w="1166760"/>
                <a:gridCol w="1127160"/>
                <a:gridCol w="2012760"/>
                <a:gridCol w="1890720"/>
                <a:gridCol w="165744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02"/>
          <p:cNvSpPr/>
          <p:nvPr/>
        </p:nvSpPr>
        <p:spPr>
          <a:xfrm>
            <a:off x="928800" y="1428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76BA710-14F3-45B1-B15B-D9CFCF385A5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9CBAFF6-9A07-4940-BDF4-F66E22E9B73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81080" y="121428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9.4.3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723960" y="1857240"/>
            <a:ext cx="769608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 weak ‘but’, where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resses 'but' more strongly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also used just with the article (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δ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 point out that the subject has change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6.37-38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ουσιν αὐτῳ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ει αὐτοις,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σους ἀρτους ἐχ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y said to him ..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e 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, 'How many loaves of brea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do you have?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2666880" y="11430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.4.4 Use of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85840" y="1614600"/>
            <a:ext cx="8786880" cy="47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rmally means 'and', but can also be used to give emphasis, equivalent to 'also' or 'even'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τε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often followed b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iving the meaning 'both … and'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2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ἐστιν ὁ υἱος του ἀνθρω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σαββα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on of man is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ver the Sabb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(ὡν) ἠρξατο ὁ Ἰησους ποιε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which) Jesus bega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ea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247680" y="2779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4 CONJUNC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35F21131-B076-495A-9130-93FA99645D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857160" y="140004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9720" y="1963800"/>
          <a:ext cx="7305480" cy="4108320"/>
        </p:xfrm>
        <a:graphic>
          <a:graphicData uri="http://schemas.openxmlformats.org/drawingml/2006/table">
            <a:tbl>
              <a:tblPr/>
              <a:tblGrid>
                <a:gridCol w="1104840"/>
                <a:gridCol w="1068480"/>
                <a:gridCol w="1904760"/>
                <a:gridCol w="1791000"/>
                <a:gridCol w="1436400"/>
              </a:tblGrid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ὑ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τα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υ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DE0492FD-DFA2-4B3A-800D-CF1DFF14699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57120" y="1179360"/>
            <a:ext cx="857268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re actually the same as f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εινος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gins with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most of its forms; rough breathing in the nom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sc. and fem., sing. and plural, the same as in the art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irst vowel fluctuates betwe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 it matches the second vowel.  If the second vowel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the first vowel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but if i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, it i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28800" y="4238640"/>
            <a:ext cx="7277040" cy="2356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itially, what is important is simply to be able to recognise the forms of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Greek. This is relatively easy, but watch for the forms without th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F17B4E0E-319E-4A37-B17B-86BFC3B8E67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790640" y="194940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1.2 Us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000080" y="2635200"/>
            <a:ext cx="74296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Use as pronoun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ἐκειν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saw those (peop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εται 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will begin these th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B47604B5-7606-4220-9393-12A239947C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-71280" y="285840"/>
            <a:ext cx="86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κειν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ὑ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AT AND THI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03B3CE74-B337-4725-A62E-0C5F57E2247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90720" y="1500120"/>
            <a:ext cx="7162560" cy="45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article must always be used in addition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y are placed in the predicative word ord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English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br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δελφ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the broth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line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γαθ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it is used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it comes before the articl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whole crowd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λος ὁ ὀχλ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ὁλος ὀχ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447920" y="121428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9.2.1 Further use of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33280" y="2168640"/>
            <a:ext cx="891072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n be used as an adjectiv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jective meaning 'sam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 attributive position (between article and no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 adjective (himself, herself, itself, themselv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ing before the article (predicative position) 'for emphasis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7C4D7E5-255E-4A0B-9F54-127A0DA28E2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4CEBD47C-B13F-4AE7-95C6-EB34B55FF5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14200" y="1643040"/>
            <a:ext cx="8643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am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μαθη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λε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sciples s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or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κυριος σωζει τον λα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Lo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ves the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552760" y="1163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9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3480" y="1781280"/>
            <a:ext cx="914400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reflexive pronoun (himself, herself, itself, themselves)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αυ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 σωζ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ἑαυτ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sav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ὐ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ὁ κυριος σωζει τον λα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- The Lor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imself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aves the peo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43000" y="4200480"/>
            <a:ext cx="6858000" cy="1959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You can tell whether 'himself' etc.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or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by deleting it. If the sentence's basic meaning is unaltered,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mphatic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if not it wa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flex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9.2 THIRD PERSON PRO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</a:t>
            </a:r>
            <a:fld id="{B758FB84-828E-4330-A04D-49787E6C06C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3:19:25Z</dcterms:created>
  <dc:creator>Sarah</dc:creator>
  <dc:description/>
  <dc:language>en-US</dc:language>
  <cp:lastModifiedBy>Sarah</cp:lastModifiedBy>
  <dcterms:modified xsi:type="dcterms:W3CDTF">2009-03-04T13:01:32Z</dcterms:modified>
  <cp:revision>69</cp:revision>
  <dc:subject/>
  <dc:title>Slide 1</dc:title>
</cp:coreProperties>
</file>